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DB6-83DF-487D-8872-1E76019E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0E4-E3DC-4786-8572-DE1DFF44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6E1-5BAD-4E7B-B70A-48FA381F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8A7-DF24-4637-B8C5-89562245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A34-ECF5-458B-A993-BD21D5C0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2D3-2F9A-4A68-ACAE-8ACAF87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002-F455-41E6-A8E8-FF7AB8D1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C9E-FD67-4015-A430-37EFACBE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801-8778-4C4A-B289-0882464D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447-814D-4AAA-8552-842C3F9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F11-3CE5-4178-A41D-D069609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263-DC34-4DA0-BC56-CBA1525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67F9-43F1-476D-8F95-78E836AB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4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7480" y="-857160"/>
            <a:ext cx="74520" cy="96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24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867120"/>
            <a:ext cx="5619600" cy="299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7720" y="2971800"/>
            <a:ext cx="47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HELP PITTSBURG KEEP CLEAN!!!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095880" y="4172040"/>
            <a:ext cx="30481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380880"/>
            <a:ext cx="6096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cycl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3809880"/>
            <a:ext cx="5791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howcard Gothic"/>
              </a:rPr>
              <a:t>Do you want to save the planet? Yes?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 Then recycle! It’ll 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help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 the planet and the animals on it. </a:t>
            </a: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Have fun</a:t>
            </a:r>
            <a:r>
              <a:rPr b="0" lang="en-US" sz="1800" spc="-1" strike="noStrike">
                <a:solidFill>
                  <a:srgbClr val="000000"/>
                </a:solidFill>
                <a:latin typeface="Showcard Gothic"/>
              </a:rPr>
              <a:t> while recycling. Make it a game! Have fun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Showcard Gothic"/>
              </a:rPr>
              <a:t>save the plan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45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1752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3c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22860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RECYCLE!!!!!!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1:32Z</dcterms:created>
  <dc:creator>mes5c</dc:creator>
  <dc:description/>
  <dc:language>en-US</dc:language>
  <cp:lastModifiedBy>mes5c</cp:lastModifiedBy>
  <dcterms:modified xsi:type="dcterms:W3CDTF">2011-02-03T13:12:46Z</dcterms:modified>
  <cp:revision>5</cp:revision>
  <dc:subject/>
  <dc:title>Slide 1</dc:title>
</cp:coreProperties>
</file>